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FDF-59F5-4E46-8162-4B3AE6DC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EA2-788E-40DC-94C4-9AA2F0AA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E2C-10B7-4BDA-9CEE-7241DA27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61D-1A74-410B-A8F7-1C50BD0D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C0B0-A2D8-4200-B668-1FC77293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2390-703B-489C-866D-2302EE2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A9B5-72F1-481C-B14E-23DF3C34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EC58-3048-4917-89C7-23811A45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03EC-03E7-4F77-91ED-8D07A91E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2DF-1EA6-4E6E-9D0A-78EDDE8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198F-60DB-49BC-9395-BF994C5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22A-DD03-4746-B877-3937B9D9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A22-2186-4025-BEE8-EA936E5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E9CF-0387-4A60-9B10-D48A773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0BFD-D98C-441B-95B2-A7954C1C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E2C3-279A-4834-A90B-FC846D8F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B3E9-B7B1-4852-B57C-5241AB01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5156-C96C-4574-9712-239DFD50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3003-C96D-4A05-8C37-74ACA77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9A23-8C9B-4409-AFC2-76E20AF2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7A86-867F-4AC5-98C2-95FF94FF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1FE1-ABAD-46D8-A660-8BF6B7C5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F9D-1727-4D37-8C49-61DBF8D3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A1C3-457C-4A8C-B20C-DF07B665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E95B-FD48-4469-8FD5-40227DF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0521-B08A-45F9-ACEB-6F7525A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A83B-4CDF-4DBE-B730-3D7A73D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DC1C-7D34-4918-9245-1A4EAA2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BC959-0C6A-44CD-846A-3053B834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60C1-E387-4E41-9709-98AF133C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AAD9-77DC-4666-BD30-B97B826B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1BA8F-7B69-448D-AF31-D725D2BD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7472-715E-46AE-8D6D-83EF0C01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7F5-FD83-41A0-A022-3214ACF8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D5D6-3C0B-4564-A5AE-C4FE13E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FC60-F039-4888-A615-3E4BC0DF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EBA9-21F8-4838-A444-FE5EF05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EA8B-D6CE-417C-B075-B8F88BF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0842-8ECC-407E-BD10-900AF24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95A1-F649-4D2C-8B91-3613B8B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FC35-AB43-4788-B74A-18A5D7F2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9A4D-F1FF-46B9-80D3-8A8A0E07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0313-4252-4159-B613-D9FDC2C8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FBA64-54DE-4495-801B-10D87F20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D0D-6355-4962-ACE7-8EB87DD7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C260-F3AE-4A50-85A9-9EF745FB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75E8-BB37-46A7-A9CA-BC2A1C2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6B8A-ADBE-4B67-B47C-1E39ED7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F0B9-BA3D-4140-9063-415F2CDA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FA69F-B3D4-4EEB-B0E2-B53E1839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9683-F4DC-4CCA-84A7-79CE853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BE241-AD5A-4E8F-A3BF-F41156D7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1989-B608-4DD5-B0A5-581FA19E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56DD2-CFC7-444A-8B1A-B2E27780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D3E0E-D3A7-4C0D-850B-1DCD2571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2DC-6F5C-48E6-8A2B-E8AEDC01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45DE-F2F9-445D-AF92-89799FDE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DE53E-97BC-4390-B413-42F782A9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4588-7A4B-4F83-8D9C-DF8271B8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7A3D-36EE-47D6-BF7A-92B5136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DEF9-48BE-4A44-9A85-5563B6A7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452FF-68B2-49C5-B039-B40ECFB1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0F54C-96E1-4FC2-AE41-77B5CECF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51F0-73EE-4A6F-9114-1077007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B459F-FB14-4079-BD27-2364683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B491-2D2B-4A98-A60E-DF2E35D5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51A-A82C-4495-B570-9192E0A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06830-E158-49D1-B53F-AE0A4026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DA70-7A81-455B-88CA-318E7A94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685C-F242-45E2-8663-8BAC07EA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A6F9B-345F-4202-A485-DB7567E9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5E56B-CFAF-4138-A863-63E99D1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7651-DDC9-4927-8039-7E3D04D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5DF07-F579-42C0-9FAE-3A0D9B5B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3FF3C-5C08-478E-A132-3C60D3D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D6F8C-BEE4-4DDD-8765-CBF8758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ADB6D-8850-40FD-83C9-6FF0127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25E-97E3-444E-A4D7-3EE8ABB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0E0F2-21C1-49FE-9ABC-9378EA8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5214-E7BF-4DAF-A717-529AA2A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5123-3FFE-451E-88AA-17E5713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84C48-2A64-4EE4-8E93-9817DF3F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537A-50E2-4A59-80FA-1482DEDD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C8F-A3C4-4A1A-98DE-EA9CAD2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18B4-A2F7-4E49-93EB-D66E178E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99CD-204D-49A0-9773-39A02B31B8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0088-BC9F-4A32-BF5A-C81D74CB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B8F-CE33-4AE6-956C-3ED0EC5D0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1596-3156-414B-A25A-F8D9BEE19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3D0-69C0-4DD3-81AF-E2D0DD8EF9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C0B7-1D24-4689-836A-CCDDE96B999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071960" y="4220280"/>
            <a:ext cx="507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едующий МДОУ №4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ущенко Н.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6" descr="Эмблема"/>
          <p:cNvPicPr/>
          <p:nvPr/>
        </p:nvPicPr>
        <p:blipFill>
          <a:blip r:embed="rId1"/>
          <a:stretch/>
        </p:blipFill>
        <p:spPr>
          <a:xfrm>
            <a:off x="8286840" y="5643720"/>
            <a:ext cx="681120" cy="477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G:\Тер. семинар по здоровью в МДОУ №48\Оздоровление детей\Неделя Здоровья 02.2010\DSC02819.JPG"/>
          <p:cNvPicPr/>
          <p:nvPr/>
        </p:nvPicPr>
        <p:blipFill>
          <a:blip r:embed="rId2"/>
          <a:stretch/>
        </p:blipFill>
        <p:spPr>
          <a:xfrm>
            <a:off x="324000" y="2565360"/>
            <a:ext cx="4214520" cy="3513240"/>
          </a:xfrm>
          <a:prstGeom prst="rect">
            <a:avLst/>
          </a:prstGeom>
          <a:ln w="0">
            <a:noFill/>
          </a:ln>
        </p:spPr>
      </p:pic>
      <p:sp>
        <p:nvSpPr>
          <p:cNvPr id="304" name="WordArt 7"/>
          <p:cNvSpPr txBox="1"/>
          <p:nvPr/>
        </p:nvSpPr>
        <p:spPr>
          <a:xfrm>
            <a:off x="611280" y="404640"/>
            <a:ext cx="777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стема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урно-оздоровительной работы 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ДОУ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2771640" y="6308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 Новокуйбышевск,2010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4"/>
          <p:cNvGraphicFramePr/>
          <p:nvPr/>
        </p:nvGraphicFramePr>
        <p:xfrm>
          <a:off x="0" y="1197000"/>
          <a:ext cx="86756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6756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8"/>
          <p:cNvSpPr/>
          <p:nvPr/>
        </p:nvSpPr>
        <p:spPr>
          <a:xfrm>
            <a:off x="611280" y="4869000"/>
            <a:ext cx="7964280" cy="1923480"/>
          </a:xfrm>
          <a:prstGeom prst="rect">
            <a:avLst/>
          </a:prstGeom>
          <a:solidFill>
            <a:srgbClr val="666666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 последние 3 года (в среднем) отмечается динамика снижения простудных заболева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етей раннего возраста на 12 случае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школьников на 3 случ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2195640" y="477720"/>
            <a:ext cx="52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НАЛИЗ ЗАБОЛЕВАЕМОСТИ ДЕ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Object 4"/>
          <p:cNvGraphicFramePr/>
          <p:nvPr/>
        </p:nvGraphicFramePr>
        <p:xfrm>
          <a:off x="468360" y="105264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8"/>
          <p:cNvSpPr/>
          <p:nvPr/>
        </p:nvSpPr>
        <p:spPr>
          <a:xfrm>
            <a:off x="324000" y="5589720"/>
            <a:ext cx="8820000" cy="1191240"/>
          </a:xfrm>
          <a:prstGeom prst="rect">
            <a:avLst/>
          </a:prstGeom>
          <a:solidFill>
            <a:srgbClr val="666666"/>
          </a:solidFill>
          <a:ln w="9360">
            <a:solidFill>
              <a:srgbClr val="666666"/>
            </a:solidFill>
            <a:miter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физическая подготовленность детей к концу учебного 2008-2009г. составила- 39,5 % детей с высоким уровнем и 42,8% детей со средним уровн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течение дня 60%времени бодрствования дети находятся в движении соответственно возрастным потребност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763640" y="47772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НИТОРИНГ  ФИЗИЧЕСКОГО  РАЗВИТИЯ  ДЕ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F:\Тер. семинар по здоровью в МДОУ №48\DSC02513.JPG"/>
          <p:cNvPicPr/>
          <p:nvPr/>
        </p:nvPicPr>
        <p:blipFill>
          <a:blip r:embed="rId1"/>
          <a:stretch/>
        </p:blipFill>
        <p:spPr>
          <a:xfrm>
            <a:off x="395280" y="0"/>
            <a:ext cx="4152960" cy="3111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F:\Тер. семинар по здоровью в МДОУ №48\P1270015.JPG"/>
          <p:cNvPicPr/>
          <p:nvPr/>
        </p:nvPicPr>
        <p:blipFill>
          <a:blip r:embed="rId2"/>
          <a:stretch/>
        </p:blipFill>
        <p:spPr>
          <a:xfrm>
            <a:off x="4929120" y="214200"/>
            <a:ext cx="3938760" cy="3111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F:\Тер. семинар по здоровью в МДОУ №48\DSC02431.JPG"/>
          <p:cNvPicPr/>
          <p:nvPr/>
        </p:nvPicPr>
        <p:blipFill>
          <a:blip r:embed="rId3"/>
          <a:stretch/>
        </p:blipFill>
        <p:spPr>
          <a:xfrm>
            <a:off x="4929120" y="3643200"/>
            <a:ext cx="3714840" cy="2571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сканирование0017"/>
          <p:cNvPicPr/>
          <p:nvPr/>
        </p:nvPicPr>
        <p:blipFill>
          <a:blip r:embed="rId4"/>
          <a:stretch/>
        </p:blipFill>
        <p:spPr>
          <a:xfrm>
            <a:off x="324000" y="321300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F:\Тер. семинар по здоровью в МДОУ №48\DSC02501.JPG"/>
          <p:cNvPicPr/>
          <p:nvPr/>
        </p:nvPicPr>
        <p:blipFill>
          <a:blip r:embed="rId1"/>
          <a:stretch/>
        </p:blipFill>
        <p:spPr>
          <a:xfrm>
            <a:off x="0" y="260280"/>
            <a:ext cx="4152960" cy="3111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F:\Тер. семинар по здоровью в МДОУ №48\DSC02497.JPG"/>
          <p:cNvPicPr/>
          <p:nvPr/>
        </p:nvPicPr>
        <p:blipFill>
          <a:blip r:embed="rId2"/>
          <a:stretch/>
        </p:blipFill>
        <p:spPr>
          <a:xfrm>
            <a:off x="4500720" y="3429000"/>
            <a:ext cx="4152600" cy="311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" descr="F:\Тер. семинар по здоровью в МДОУ №48\DSC02498.JPG"/>
          <p:cNvPicPr/>
          <p:nvPr/>
        </p:nvPicPr>
        <p:blipFill>
          <a:blip r:embed="rId3"/>
          <a:stretch/>
        </p:blipFill>
        <p:spPr>
          <a:xfrm>
            <a:off x="214200" y="3429000"/>
            <a:ext cx="4152960" cy="3111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на конкурс 012"/>
          <p:cNvPicPr/>
          <p:nvPr/>
        </p:nvPicPr>
        <p:blipFill>
          <a:blip r:embed="rId4"/>
          <a:stretch/>
        </p:blipFill>
        <p:spPr>
          <a:xfrm>
            <a:off x="4572000" y="0"/>
            <a:ext cx="4248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95280" y="836640"/>
            <a:ext cx="8424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Начните с простого плана, 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вы начнете не с нуля» 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ж. Паркинсон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2428920" y="1143000"/>
          <a:ext cx="4095720" cy="500040"/>
        </p:xfrm>
        <a:graphic>
          <a:graphicData uri="http://schemas.openxmlformats.org/drawingml/2006/table">
            <a:tbl>
              <a:tblPr/>
              <a:tblGrid>
                <a:gridCol w="40957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ведующ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0040" y="2214720"/>
          <a:ext cx="8143920" cy="1357200"/>
        </p:xfrm>
        <a:graphic>
          <a:graphicData uri="http://schemas.openxmlformats.org/drawingml/2006/table">
            <a:tbl>
              <a:tblPr/>
              <a:tblGrid>
                <a:gridCol w="2714760"/>
                <a:gridCol w="2714400"/>
                <a:gridCol w="271476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еду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едующ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АХ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я медицинская сест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14200" y="4286160"/>
          <a:ext cx="8715600" cy="107172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льный руковод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309" name="Rectangle 1"/>
          <p:cNvSpPr/>
          <p:nvPr/>
        </p:nvSpPr>
        <p:spPr>
          <a:xfrm>
            <a:off x="500040" y="24444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ДЕЯТЕЛЬНОСТЬ СОТРУДНИКОВ в осуществлен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физкультурно-оздоровительной работы в МДОУ №48 «Золотой ключи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35"/>
          <p:cNvSpPr/>
          <p:nvPr/>
        </p:nvSpPr>
        <p:spPr>
          <a:xfrm flipH="1">
            <a:off x="2626920" y="1628640"/>
            <a:ext cx="1513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4140360" y="1628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37"/>
          <p:cNvSpPr/>
          <p:nvPr/>
        </p:nvSpPr>
        <p:spPr>
          <a:xfrm>
            <a:off x="4140360" y="1628640"/>
            <a:ext cx="237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38"/>
          <p:cNvSpPr/>
          <p:nvPr/>
        </p:nvSpPr>
        <p:spPr>
          <a:xfrm>
            <a:off x="435600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500040" y="123840"/>
            <a:ext cx="814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ТРАТЕГИЧЕСКИЙ  ПЛАН  УЛУЧШЕНИЯ  ЗДОРОВЬЯ  ДЕТ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МДОУ №48 «Золотой ключик»     на 2009-2010у.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57120" y="714240"/>
          <a:ext cx="8501040" cy="5894640"/>
        </p:xfrm>
        <a:graphic>
          <a:graphicData uri="http://schemas.openxmlformats.org/drawingml/2006/table">
            <a:tbl>
              <a:tblPr/>
              <a:tblGrid>
                <a:gridCol w="3816360"/>
                <a:gridCol w="1550880"/>
                <a:gridCol w="1663920"/>
                <a:gridCol w="1469880"/>
              </a:tblGrid>
              <a:tr h="36540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ность выполн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gridSpan="4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Методическая работа с кадр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.Утвердить организацию жизни групп и воспитания детей в детском саду (режим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.Составить учебный план, определить объем образовательной нагрузки для каждой возрастной групп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3.Разработать модели внедрения здоровьесберегающих технологий учебно-воспитательный процесс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4.Изучить и внедрить эффективные технологий и методики оздоровления детей, физкультурных и валеологических занят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.Осуществлять контроль  за выполнением оздоровительных мероприятий, Сан ПиНов, физическим и НПР развитием д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.Проводить работу, направленную на   решение задач годового плана, приоритетного направления  МДОУ - физкультурно-спортивно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сов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отры – конкурсы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7.Продолжать работать по совершенствованию комфортной предметно - развивающей среды 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дне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и, педагог-психолог, соц. педаг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8.Проведить валеологизации всего учебного процесса (психологический фон занятий, методы и формы обучения, длительность, санитарно-гигиенические услов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., воспит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. Обеспечивать  материальное оздоровления детей (приобрести спортинвентарь, медиц. оборудование…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714240" y="357120"/>
          <a:ext cx="8001000" cy="5857920"/>
        </p:xfrm>
        <a:graphic>
          <a:graphicData uri="http://schemas.openxmlformats.org/drawingml/2006/table">
            <a:tbl>
              <a:tblPr/>
              <a:tblGrid>
                <a:gridCol w="3668760"/>
                <a:gridCol w="1201680"/>
                <a:gridCol w="119160"/>
                <a:gridCol w="1598760"/>
                <a:gridCol w="1412640"/>
              </a:tblGrid>
              <a:tr h="453960">
                <a:tc gridSpan="5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Физкультурно-оздоровительн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06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1.Обеспечивать здорового ритма жизни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адящий режим (адапт. период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бкий режим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микроклимата и стиля жизни группы с учетом возрастных, индивидуальных особенностей д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дне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и, педагог-психолог Ремизова Н.К., соц. педагог Сафронова Е.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2. Выработка критериев, уровней и методик оценки физ. подготовленности и физического развития д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ре необходи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, инст. по физк. Кузьмичева О.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.Реализоватьсистемы физкультурно-оздоровительной рабо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лекти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4. Скорректировать работа с детьми, имеющими плоскостопие, нарушение осанки  с  медработниками, воспитателя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. по физк. Кузьмичева О.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gridSpan="5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Лечебно-оздоровительн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1.Комплексная оценка состояния здоровья д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 МДОУ №48 специалисты поликли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плану работы с поликлиник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.Реализовывать системы лечебно-оздоровительной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ий персонал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3.Проводить контроль за питанием детей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месяч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ий персонал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30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. Организовать тесный контакт с медицинскими службами город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. медсестра Шутова А.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500040" y="571680"/>
          <a:ext cx="8215200" cy="5898960"/>
        </p:xfrm>
        <a:graphic>
          <a:graphicData uri="http://schemas.openxmlformats.org/drawingml/2006/table">
            <a:tbl>
              <a:tblPr/>
              <a:tblGrid>
                <a:gridCol w="3687840"/>
                <a:gridCol w="1500120"/>
                <a:gridCol w="1606680"/>
                <a:gridCol w="1420560"/>
              </a:tblGrid>
              <a:tr h="371160">
                <a:tc gridSpan="4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Работа с родит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1.Участие родителей  в родительских собраниях, педсоветах, семинарах, тренингах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лекти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2.Проводить консультации, лекции для роди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лекти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.Проводить профилактическую работы с родите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 МДОУ №48 Нестерова Е.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.Вовлекать родителей в мероприятия МДОУ (валеологические занятия, спортивные праздники, «Дни здоровья», в смотры-конкурсы…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лекти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4.Оформить наглядную информацию для родителей (стенды, выпуск газет…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лекти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4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Работа с сообществами, организаци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12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.Организовать  контакт с социальными службами города (Комитет по вопросам семьи, материнства и детства, Центр «Семья», Центр диагностики и коррекции развития…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2.Проводить рекламу в СМИ, Интернет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лектив МДО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3.Участвовать в научно-практических конференциях, семинарах, совещаниях по вопросам оздоровления дет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ед. Петрущенко Н.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.Организовать территориальный семинар на базе ДО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ре необходи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. зав. Зенченко Н.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.Принимать участие в Фестивале здоровья работников образов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214200" y="1089000"/>
          <a:ext cx="8786880" cy="5554800"/>
        </p:xfrm>
        <a:graphic>
          <a:graphicData uri="http://schemas.openxmlformats.org/drawingml/2006/table">
            <a:tbl>
              <a:tblPr/>
              <a:tblGrid>
                <a:gridCol w="2986200"/>
                <a:gridCol w="884160"/>
                <a:gridCol w="792360"/>
                <a:gridCol w="669960"/>
                <a:gridCol w="925200"/>
                <a:gridCol w="1130400"/>
                <a:gridCol w="1398600"/>
              </a:tblGrid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гр.ран. возрас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а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.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а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 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.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gridSpan="7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  Физкультурные     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ренняя гимнастика (ежедневно), упражнения на дыхан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зык.зал,</a:t>
                      </a: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 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зкульт.за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с-р по физ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.за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-р по физ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минут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игательная размин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ду заня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ду заня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7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ду заняти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ижные игры (ежедневно, на 1 и 2 прогулках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1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17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-2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ая работа по развитию движений (ежедневно в 1и 2 пол.дн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1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1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2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,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1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,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,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й бег на улице (2 раза в неделю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5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7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мнастика после сна (ежедневно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6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мин.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мин.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 gridSpan="7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 Специально-организованная деятельность (занят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развитию движ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урно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зкуль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л, ИФ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.за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Ф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.за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Ф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41400" rIns="4140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урное (на улице, когда нет бассейн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зкуль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л, ИФ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 ьт.за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Ф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.за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Ф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Rectangle 1"/>
          <p:cNvSpPr/>
          <p:nvPr/>
        </p:nvSpPr>
        <p:spPr>
          <a:xfrm>
            <a:off x="857160" y="318960"/>
            <a:ext cx="7500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ИСТЕМА ФИЗКУЛЬТУРНО -  ОЗДОРОВИТЕЛЬНЫХ МЕРО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МДОУ №48 «Золотой ключик»     на 2009-2010 у.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214200" y="428760"/>
          <a:ext cx="8715600" cy="5486400"/>
        </p:xfrm>
        <a:graphic>
          <a:graphicData uri="http://schemas.openxmlformats.org/drawingml/2006/table">
            <a:tbl>
              <a:tblPr/>
              <a:tblGrid>
                <a:gridCol w="2907000"/>
                <a:gridCol w="860400"/>
                <a:gridCol w="95040"/>
                <a:gridCol w="733320"/>
                <a:gridCol w="615960"/>
                <a:gridCol w="95400"/>
                <a:gridCol w="900000"/>
                <a:gridCol w="93960"/>
                <a:gridCol w="1054080"/>
                <a:gridCol w="1360440"/>
              </a:tblGrid>
              <a:tr h="182880">
                <a:tc gridSpan="10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Занятия по дополнительному образован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1. Плавание в бассейне (подгруппами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-25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-3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2. Спортивный кружок «Крепыш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мин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физкульт.зал , инс-р по физ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3. Игры и упр на разв. эмоц. сферы, тренинги с детьм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плану работы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ос-ли, соц.педагог, педагог-психоло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. Занятия  в «Школе здоровья» (валеологические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тически, по плану  работы-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и и медсест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10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Оздоровительные мероприят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1. Воздушные ванны (ежедневно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 время гимнастики и подвижных игр, согласно методическим рекомендациям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2. Контрастные воздушные ванн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раза в нед.,10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. Солнечные ван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плый период года, согласно методическим рекомендациям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4. Хождение босико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окончании гимнастики после сна, согласно методическим рекомендациям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. «Игровые дорож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сна,3-5мин., 2-3 раза в неделю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6. Точечный массаж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период инфекций , согласно методическим рекомендациям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gridSpan="10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  Двигательно-оздоров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. Самостоятельная двигательная деятельность в групп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зависит от индивидуальных особенностей детей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2. Индивид-ая работа по развитию движен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ре необходимости, под руководством воспита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3.Упражнения на развитие мелких мышц 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ре необходимости, под руководством воспита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.Мимическая гимнасти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, муз.ру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.ру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-ль, муз.рук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.Пальчиковая гимнасти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мере необходимости, под руководством воспитател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6.Гимнастика для гла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вос-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71680" y="1000080"/>
          <a:ext cx="8143560" cy="3840120"/>
        </p:xfrm>
        <a:graphic>
          <a:graphicData uri="http://schemas.openxmlformats.org/drawingml/2006/table">
            <a:tbl>
              <a:tblPr/>
              <a:tblGrid>
                <a:gridCol w="2752560"/>
                <a:gridCol w="814320"/>
                <a:gridCol w="731880"/>
                <a:gridCol w="617400"/>
                <a:gridCol w="852480"/>
                <a:gridCol w="88920"/>
                <a:gridCol w="997200"/>
                <a:gridCol w="1288800"/>
              </a:tblGrid>
              <a:tr h="182880">
                <a:tc gridSpan="8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  Физкультурно-массовы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1. Физкультурные досуг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месяц, 20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месяц, 25-30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месяц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 мин..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2. Физк.- спорт. праздники (зимний и летни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раза в год, 50мин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3. Неделя здоровь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раза в год  (последняя неделя квартала).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4. Игры-соревнов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воздухе или в зале, по плану  работы с дет.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5.Спартакиады, олимпиа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воздухе или в зале, 1 раз в год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8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  Совместная  физкультурно -оздоровите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1.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С родителями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ые досуг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здники с участием роди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желанию родителей, детей, воспитателей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2.</a:t>
                      </a: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С  различными учреждениями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общеобразовательной школой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 спортивной школо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ечение года,</a:t>
                      </a: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ин.ф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14200" y="571680"/>
          <a:ext cx="8786880" cy="6460920"/>
        </p:xfrm>
        <a:graphic>
          <a:graphicData uri="http://schemas.openxmlformats.org/drawingml/2006/table">
            <a:tbl>
              <a:tblPr/>
              <a:tblGrid>
                <a:gridCol w="2930760"/>
                <a:gridCol w="907920"/>
                <a:gridCol w="814320"/>
                <a:gridCol w="689040"/>
                <a:gridCol w="949320"/>
                <a:gridCol w="1162080"/>
                <a:gridCol w="1333440"/>
              </a:tblGrid>
              <a:tr h="36540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гр.ран. возрас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ая мл. 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ая мл. 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.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. групп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gridSpan="7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Лечебно-оздоровительная профилактика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 педиат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раза в год, по необходим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ропометирические измер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раза в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пределение по группам здоровья, «Паспорта здоровья групп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месяч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я специалистов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хирург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логопед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кулист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томатолог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невропато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период подготовки к детскому саду , в поликлин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год, диспансерное наблюд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gridSpan="7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 Сезонная профилакт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аминотерап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раза в год (весной, осенью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арцевание груп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эпид. показа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стимулятор «Бриз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эпид. показаниям, 1ч.л., 2раза в д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304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ампы и люстра Чижевског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эпид. показания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gridSpan="7"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  Сезонный подъем ОРВ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иксир «Бодрость» (витамин С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5 * 1раз ежедневно, 10 дн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чебная смазка носика (оксалиновая маз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раза в день ежедневно (утром, вечером),10 дн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олшебная приправа» (фитонициды- лук, чеснок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д,1 блюдо, ежедне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скание гор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период инфек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gridSpan="7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  Здоровое пит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Живая» в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 фильтрованной   воды в приготовлении пищи, ежедне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леные сал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раза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очай «Здоровье» (мята, смородина, земляник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после занятий в бассейн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со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5" name="Rectangle 1"/>
          <p:cNvSpPr/>
          <p:nvPr/>
        </p:nvSpPr>
        <p:spPr>
          <a:xfrm>
            <a:off x="785880" y="2196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ИСТЕМА   ЛЕЧЕБНО 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ЗДОРОВИТЕЛЬНЫХ МЕРОПРИЯТ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МДОУ №48 «Золотой ключик»     на 2009-2010у.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11T04:50:34Z</dcterms:modified>
  <cp:revision>20</cp:revision>
  <dc:subject/>
  <dc:title>Слайд 1</dc:title>
</cp:coreProperties>
</file>